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821-BC50-42AA-B940-6BF5A7CE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BB5-8567-4886-ACB5-79EDB709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B44-689D-4BA4-94A4-840C77F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264-5E33-4317-B8AB-5AF2FAA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401-6BF9-4225-A855-26C0B03E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3F9-A952-4AF3-A2AC-19F5442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BD4-924C-48D4-9E3B-BF610CD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F4FA-1C3C-4372-9931-7DF8E37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3CB2-1C17-4694-8DE5-71C776D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EF1A-B739-4563-A54E-B2183F8C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3334-A144-4C73-86EE-19BF677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471-D897-4591-B5C7-19C0CBB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EFC-EB8E-4AAF-8E4E-B60FE54B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821-6B26-44D4-A24F-82FE3EF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A6F-B127-4B06-94A7-5AFB4CF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C689-FC56-4627-9143-528E4528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FCFB-2742-4026-86A2-8BE5CFE9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6C1-0C2D-4BF8-BFC9-A73A1686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042-ADFC-4FE6-B183-59FBFEBA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990-3DB7-4796-BF0E-2DF82905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DC0-AF73-45B1-B0B9-CC1473EB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898-1882-4312-A0A8-A3AD125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3E4-EE7E-42A5-B663-A472D54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649-F8A7-494D-A86A-1277944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0A6-6414-42D8-B86A-813E183F2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FAD9-3255-4C6A-99AF-28A533929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pter 30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sonian Progressivism at Home and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2-19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ian Progressiv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ed child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amson Act of 1916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ed 8-hour workday for employees on trains in interstate comme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Follette Seamen’s Act of 1915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quired decent treatment &amp; a living wage on American merchant sh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iled from aggressive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war on dollar diplom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ed Panama Canal Tolls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ones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nted Philippines territorial status &amp; promised independence w/ st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tched troops to Haiti in 1915 to protect American l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Breaks out in Europ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 patriot kills Franz Ferdinand (archduke of Austria-Hung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&amp; Russia mobilize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attacks France through Belg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Britain sides w/ F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in Europ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Po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ia- 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g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50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95480" y="4278240"/>
            <a:ext cx="31244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tralit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son issues neutrality procla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sides wooed the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mericans were anti-G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Americans hoped to stay out of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trality Teste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is “neutr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 Morgan gives $2.3 billion to All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unhappy, but can still technically trade w/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has block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915- Germany declares submarine war area around British Is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wants to remain neutral, warns Germany they will be held accountable if they sink any of America’s neutral 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8195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sitania Sinks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submarines= u-b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few months of 1915- Germany sinks 90 ships in war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sitania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ed merchant crui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k w/ torpedo on May 7, 19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ed 1,198 lives (128 America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outraged at mass murder &amp; pi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5146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199044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restricted Submarine Warf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inking another British ship, Germany agrees not to sink unarmed &amp; unresisting passenger ships w/o 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ss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ltimatum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informed Germans that unless they renounced sinking merchant ships w/o warning, he would break diplomatic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luctantly ac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Woodrow Wilson (New Freed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nterprise, free functioning of unmonopolized &amp; unregulated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Party: Teddy Roosevelt (New Nationa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 Moose” Par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olidation of trust, women’s suffrage, social wel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Candidate: William H. T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 was nominated as Progressive (Bull Moose) candidate, refused 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ve party di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Supreme Court Justice Charles Evans Hug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emned tariff &amp; assault on tru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Woodrow Wil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Kept us out of War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wins by narrow marg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erns agreed w/ Wilson’s progressive reforms &amp; antiwar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itical Carto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heet of paper provided to you, you will be creating a political cartoon about the Progressive Era (Roosevelt- Wilson) or the start of World War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be col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have a political message regarding this time period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time on Tuesday to work on this in class as w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25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273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614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row Wils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42% of the popular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ft + Roosevelt got 1.25 million votes more than Wil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o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cold &amp; stand-offish in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compromise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 Tackles the Tarif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ault of “triple wall of privilege”- trusts, tariff, and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derwood Tariff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for substantial reduction of 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import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cted 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 Battles the Bank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’s plea to Congress- sweeping reform of the bank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serve Act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mportant piece of economic legislation between the Civil War &amp; New Deal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Federal Reserve Board to oversee a nationwide system of 12 regional reserve districts, each w/ its own central ban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issue paper money- federal reserve no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ming the Trus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Trade Commiss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presidentially appointed commission power to curb unfair trade advantages (interstate commer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yton Antitrust Act of 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 to Sherman Act’s list of business practices that were objection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ed benefits to la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ian Progressivism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Farm Loan Act of 19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credit available to farmers at low rates of inter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other laws benefiting rural Ame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men’s Compensation Act of 1916- granted assistance to federal civil-service employees during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7440" y="52578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20:42:19Z</dcterms:created>
  <dc:creator>emily.johnson</dc:creator>
  <dc:description/>
  <dc:language>en-US</dc:language>
  <cp:lastModifiedBy>emily.johnson</cp:lastModifiedBy>
  <dcterms:modified xsi:type="dcterms:W3CDTF">2013-02-15T15:26:08Z</dcterms:modified>
  <cp:revision>8</cp:revision>
  <dc:subject/>
  <dc:title>Chapter 30 </dc:title>
</cp:coreProperties>
</file>